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CB3F-A31C-46D2-B498-D44B6DDC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C001-6E51-4884-8F48-D9B0BF5D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54A3-20E5-4A97-BB7D-FE13FD88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4252-A9F0-47B8-B695-BC62A6F2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BF46-9C18-4A39-9CF1-BAFBDEC7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93B2-A2B6-4B34-9A89-205732B1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951-6734-4E67-99F4-A033B87E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56D6-C229-47C1-82C9-D1597EE3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8242-2385-4DAC-A691-7A5F05E3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79B-91DD-40ED-9D8B-FDDFA001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BDAF-25A6-4880-A06E-F334A697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4152-F3A0-488C-93F7-F7D6AD9B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DB7E-9241-4485-8BDD-2A5DDDF43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orgabezeitermittlung nach RE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458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14:19:54Z</dcterms:created>
  <dc:creator>Joachim Becker</dc:creator>
  <dc:description/>
  <dc:language>en-US</dc:language>
  <cp:lastModifiedBy>Joachim Becker</cp:lastModifiedBy>
  <dcterms:modified xsi:type="dcterms:W3CDTF">2002-01-28T14:39:58Z</dcterms:modified>
  <cp:revision>2</cp:revision>
  <dc:subject/>
  <dc:title> Einordnung von Arbeitsplanung und Kalkulation in das kaufmännische Gesamtsystem</dc:title>
</cp:coreProperties>
</file>