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6640"/>
            <a:ext cx="502920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81080" y="1533600"/>
            <a:ext cx="4965840" cy="4359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800" y="838080"/>
            <a:ext cx="8429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81680" y="304920"/>
            <a:ext cx="19814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RW"/>
              </a:rPr>
              <a:t>Firmenlo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6120" y="452520"/>
            <a:ext cx="3175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6880" y="6400800"/>
            <a:ext cx="850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924680" y="6396120"/>
            <a:ext cx="1013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4840" y="6394320"/>
            <a:ext cx="1852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ControllerSpielwiese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40080" y="5943600"/>
            <a:ext cx="1161360" cy="332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arcelo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31800" y="2819520"/>
            <a:ext cx="1069920" cy="332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rankfu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3581280"/>
            <a:ext cx="990720" cy="332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ond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84320" y="5791320"/>
            <a:ext cx="1069920" cy="332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ün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048120" y="5181120"/>
            <a:ext cx="304560" cy="762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4191120" y="4343040"/>
            <a:ext cx="2288880" cy="1413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3733920"/>
            <a:ext cx="1523880" cy="228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71760" y="6396120"/>
            <a:ext cx="2259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1 of 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3048120"/>
            <a:ext cx="1523880" cy="1066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1218960"/>
            <a:ext cx="47242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ere europäischen Stand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7:44:40Z</dcterms:created>
  <dc:creator>www.ControllerSpielwiese.de</dc:creator>
  <dc:description/>
  <dc:language>en-US</dc:language>
  <cp:lastModifiedBy>ControllerSpielwiese</cp:lastModifiedBy>
  <dcterms:modified xsi:type="dcterms:W3CDTF">2002-03-20T15:06:20Z</dcterms:modified>
  <cp:revision>1</cp:revision>
  <dc:subject/>
  <dc:title>PowerPoint-Präsentation</dc:title>
</cp:coreProperties>
</file>