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F30-C5D2-4AE0-B81B-D8F49783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7E1-38F2-4589-B1D0-30B1849C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D26-860C-4671-8D9B-D8049A91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7B3-85EA-417D-855B-8B496ABF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67A-428B-42EF-BFF2-341FA886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B07-E7CC-40B6-B3D6-9ECAF268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47C-B838-49FE-BD36-B184DDAD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588-6EEE-48F2-BE68-8F534FFB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4EE-AF09-428E-8459-DB3611B5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865-6355-4FBE-A88C-4975CBA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479-DD13-423E-A743-0912AF35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CF1-AF5B-4CDC-AA4C-28B0DC28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14CD-E910-490F-BC63-0E345E73D3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nordnung von Arbeitsplanung und Kalkulation in das kaufmännische Gesam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35920" y="1447920"/>
            <a:ext cx="1449360" cy="1926720"/>
            <a:chOff x="835920" y="1447920"/>
            <a:chExt cx="1449360" cy="1926720"/>
          </a:xfrm>
        </p:grpSpPr>
        <p:grpSp>
          <p:nvGrpSpPr>
            <p:cNvPr id="43" name=""/>
            <p:cNvGrpSpPr/>
            <p:nvPr/>
          </p:nvGrpSpPr>
          <p:grpSpPr>
            <a:xfrm>
              <a:off x="1228320" y="1447920"/>
              <a:ext cx="1056960" cy="768600"/>
              <a:chOff x="1228320" y="1447920"/>
              <a:chExt cx="1056960" cy="768600"/>
            </a:xfrm>
          </p:grpSpPr>
          <p:sp>
            <p:nvSpPr>
              <p:cNvPr id="44" name=""/>
              <p:cNvSpPr/>
              <p:nvPr/>
            </p:nvSpPr>
            <p:spPr>
              <a:xfrm>
                <a:off x="1244160" y="1456200"/>
                <a:ext cx="1041120" cy="760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44160" y="1456200"/>
                <a:ext cx="1041120" cy="17568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228320" y="1447920"/>
                <a:ext cx="10141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Kostensätz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1059480" y="1687680"/>
              <a:ext cx="1173960" cy="784440"/>
              <a:chOff x="1059480" y="1687680"/>
              <a:chExt cx="1173960" cy="784440"/>
            </a:xfrm>
          </p:grpSpPr>
          <p:sp>
            <p:nvSpPr>
              <p:cNvPr id="48" name=""/>
              <p:cNvSpPr/>
              <p:nvPr/>
            </p:nvSpPr>
            <p:spPr>
              <a:xfrm>
                <a:off x="1075680" y="1694520"/>
                <a:ext cx="1040760" cy="777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75680" y="1694520"/>
                <a:ext cx="1040760" cy="18000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59480" y="1687680"/>
                <a:ext cx="11739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Zuschlagsätz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835920" y="2052360"/>
              <a:ext cx="1147680" cy="1322280"/>
              <a:chOff x="835920" y="2052360"/>
              <a:chExt cx="1147680" cy="1322280"/>
            </a:xfrm>
          </p:grpSpPr>
          <p:sp>
            <p:nvSpPr>
              <p:cNvPr id="52" name=""/>
              <p:cNvSpPr/>
              <p:nvPr/>
            </p:nvSpPr>
            <p:spPr>
              <a:xfrm>
                <a:off x="845280" y="2052360"/>
                <a:ext cx="1138320" cy="13222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5280" y="2052360"/>
                <a:ext cx="1138320" cy="31752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5920" y="2074680"/>
                <a:ext cx="10897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Kostenstel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65080" y="2571840"/>
              <a:ext cx="10440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st-Kost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- Soll-Kost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= Abweich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191120" y="1447920"/>
            <a:ext cx="1295280" cy="1955160"/>
            <a:chOff x="4191120" y="1447920"/>
            <a:chExt cx="1295280" cy="1955160"/>
          </a:xfrm>
        </p:grpSpPr>
        <p:grpSp>
          <p:nvGrpSpPr>
            <p:cNvPr id="57" name=""/>
            <p:cNvGrpSpPr/>
            <p:nvPr/>
          </p:nvGrpSpPr>
          <p:grpSpPr>
            <a:xfrm>
              <a:off x="4443480" y="1447920"/>
              <a:ext cx="1032120" cy="797400"/>
              <a:chOff x="4443480" y="1447920"/>
              <a:chExt cx="1032120" cy="797400"/>
            </a:xfrm>
          </p:grpSpPr>
          <p:sp>
            <p:nvSpPr>
              <p:cNvPr id="58" name=""/>
              <p:cNvSpPr/>
              <p:nvPr/>
            </p:nvSpPr>
            <p:spPr>
              <a:xfrm>
                <a:off x="4459320" y="1456560"/>
                <a:ext cx="1016280" cy="7887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59320" y="1456560"/>
                <a:ext cx="1016280" cy="18252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443480" y="1447920"/>
                <a:ext cx="9921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beitsplä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4339800" y="1721520"/>
              <a:ext cx="1146600" cy="815400"/>
              <a:chOff x="4339800" y="1721520"/>
              <a:chExt cx="1146600" cy="815400"/>
            </a:xfrm>
          </p:grpSpPr>
          <p:sp>
            <p:nvSpPr>
              <p:cNvPr id="62" name=""/>
              <p:cNvSpPr/>
              <p:nvPr/>
            </p:nvSpPr>
            <p:spPr>
              <a:xfrm>
                <a:off x="4355280" y="1730160"/>
                <a:ext cx="1016640" cy="8067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55280" y="1730160"/>
                <a:ext cx="1016640" cy="18684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39800" y="1721520"/>
                <a:ext cx="114660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tückliste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191120" y="2030760"/>
              <a:ext cx="1111680" cy="1372320"/>
              <a:chOff x="4191120" y="2030760"/>
              <a:chExt cx="1111680" cy="1372320"/>
            </a:xfrm>
          </p:grpSpPr>
          <p:sp>
            <p:nvSpPr>
              <p:cNvPr id="66" name=""/>
              <p:cNvSpPr/>
              <p:nvPr/>
            </p:nvSpPr>
            <p:spPr>
              <a:xfrm>
                <a:off x="4191120" y="2030760"/>
                <a:ext cx="1111680" cy="1372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191120" y="2030760"/>
                <a:ext cx="1111680" cy="32976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21000" y="2054160"/>
                <a:ext cx="10148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7315200" y="1828800"/>
            <a:ext cx="1218960" cy="1425240"/>
            <a:chOff x="7315200" y="1828800"/>
            <a:chExt cx="1218960" cy="1425240"/>
          </a:xfrm>
        </p:grpSpPr>
        <p:grpSp>
          <p:nvGrpSpPr>
            <p:cNvPr id="70" name=""/>
            <p:cNvGrpSpPr/>
            <p:nvPr/>
          </p:nvGrpSpPr>
          <p:grpSpPr>
            <a:xfrm>
              <a:off x="7332120" y="1828800"/>
              <a:ext cx="1202040" cy="1425240"/>
              <a:chOff x="7332120" y="1828800"/>
              <a:chExt cx="1202040" cy="1425240"/>
            </a:xfrm>
          </p:grpSpPr>
          <p:sp>
            <p:nvSpPr>
              <p:cNvPr id="71" name=""/>
              <p:cNvSpPr/>
              <p:nvPr/>
            </p:nvSpPr>
            <p:spPr>
              <a:xfrm>
                <a:off x="7332120" y="1849320"/>
                <a:ext cx="1202040" cy="1404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332120" y="1849320"/>
                <a:ext cx="1202040" cy="33768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409160" y="1828800"/>
                <a:ext cx="109224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000000"/>
                    </a:solidFill>
                    <a:latin typeface="Arial"/>
                  </a:rPr>
                  <a:t>Vor-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000000"/>
                    </a:solidFill>
                    <a:latin typeface="Arial"/>
                  </a:rPr>
                  <a:t>kalkula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7315200" y="2301840"/>
              <a:ext cx="1161360" cy="85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+ Fertig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= Herstellkost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+ Vw.-Zuschla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= Selbstkost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438880" y="2638440"/>
            <a:ext cx="174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47040" y="2414520"/>
            <a:ext cx="780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-We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333920" y="4818240"/>
            <a:ext cx="1163880" cy="1505520"/>
            <a:chOff x="7333920" y="4818240"/>
            <a:chExt cx="1163880" cy="1505520"/>
          </a:xfrm>
        </p:grpSpPr>
        <p:grpSp>
          <p:nvGrpSpPr>
            <p:cNvPr id="78" name=""/>
            <p:cNvGrpSpPr/>
            <p:nvPr/>
          </p:nvGrpSpPr>
          <p:grpSpPr>
            <a:xfrm>
              <a:off x="7350480" y="4818240"/>
              <a:ext cx="1147320" cy="1505520"/>
              <a:chOff x="7350480" y="4818240"/>
              <a:chExt cx="1147320" cy="1505520"/>
            </a:xfrm>
          </p:grpSpPr>
          <p:sp>
            <p:nvSpPr>
              <p:cNvPr id="79" name=""/>
              <p:cNvSpPr/>
              <p:nvPr/>
            </p:nvSpPr>
            <p:spPr>
              <a:xfrm>
                <a:off x="7350480" y="4840200"/>
                <a:ext cx="1147320" cy="1483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350480" y="4840200"/>
                <a:ext cx="1147320" cy="35640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20680" y="4818240"/>
                <a:ext cx="104868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Material-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wirtschaf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7333920" y="5402520"/>
              <a:ext cx="115848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st-Verbrau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- Soll-Verbrau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= Abweich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14400" y="4800600"/>
            <a:ext cx="1309320" cy="1447560"/>
            <a:chOff x="914400" y="4800600"/>
            <a:chExt cx="1309320" cy="1447560"/>
          </a:xfrm>
        </p:grpSpPr>
        <p:grpSp>
          <p:nvGrpSpPr>
            <p:cNvPr id="84" name=""/>
            <p:cNvGrpSpPr/>
            <p:nvPr/>
          </p:nvGrpSpPr>
          <p:grpSpPr>
            <a:xfrm>
              <a:off x="960120" y="4800600"/>
              <a:ext cx="1205280" cy="1447560"/>
              <a:chOff x="960120" y="4800600"/>
              <a:chExt cx="1205280" cy="1447560"/>
            </a:xfrm>
          </p:grpSpPr>
          <p:sp>
            <p:nvSpPr>
              <p:cNvPr id="85" name=""/>
              <p:cNvSpPr/>
              <p:nvPr/>
            </p:nvSpPr>
            <p:spPr>
              <a:xfrm>
                <a:off x="960120" y="4821480"/>
                <a:ext cx="1205280" cy="1426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60120" y="4821480"/>
                <a:ext cx="1205280" cy="342720"/>
              </a:xfrm>
              <a:prstGeom prst="rect">
                <a:avLst/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030680" y="4800600"/>
                <a:ext cx="11088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"/>
                  </a:rPr>
                  <a:t>Ergebnis-rechnu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914400" y="5216760"/>
              <a:ext cx="130932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rlö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 verr. Soll-Kost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 KST-Abweich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= Ergebn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91120" y="4876920"/>
            <a:ext cx="1306080" cy="1479240"/>
            <a:chOff x="4191120" y="4876920"/>
            <a:chExt cx="1306080" cy="1479240"/>
          </a:xfrm>
        </p:grpSpPr>
        <p:sp>
          <p:nvSpPr>
            <p:cNvPr id="90" name=""/>
            <p:cNvSpPr/>
            <p:nvPr/>
          </p:nvSpPr>
          <p:spPr>
            <a:xfrm>
              <a:off x="4237200" y="4876920"/>
              <a:ext cx="1212840" cy="14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37200" y="4876920"/>
              <a:ext cx="1212840" cy="35532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40080" y="4930920"/>
              <a:ext cx="1182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stenträ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91120" y="5327640"/>
              <a:ext cx="1306080" cy="85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oll/Ist-H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+ Vw-Zuschla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= Soll/Ist-Selbstk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-  verr. Soll-Kost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= Abweich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176720" y="3860640"/>
            <a:ext cx="1233360" cy="3128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45040" y="3887640"/>
            <a:ext cx="1260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600200"/>
            <a:ext cx="1438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057400" y="2743200"/>
            <a:ext cx="2133000" cy="1219320"/>
            <a:chOff x="2057400" y="2743200"/>
            <a:chExt cx="2133000" cy="1219320"/>
          </a:xfrm>
        </p:grpSpPr>
        <p:sp>
          <p:nvSpPr>
            <p:cNvPr id="98" name=""/>
            <p:cNvSpPr/>
            <p:nvPr/>
          </p:nvSpPr>
          <p:spPr>
            <a:xfrm flipH="1">
              <a:off x="3355560" y="3962520"/>
              <a:ext cx="83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355920" y="2759760"/>
              <a:ext cx="0" cy="120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2743200"/>
              <a:ext cx="12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10080" y="4038480"/>
            <a:ext cx="1880640" cy="1462320"/>
            <a:chOff x="5410080" y="4038480"/>
            <a:chExt cx="1880640" cy="1462320"/>
          </a:xfrm>
        </p:grpSpPr>
        <p:sp>
          <p:nvSpPr>
            <p:cNvPr id="102" name=""/>
            <p:cNvSpPr/>
            <p:nvPr/>
          </p:nvSpPr>
          <p:spPr>
            <a:xfrm>
              <a:off x="5410080" y="4038480"/>
              <a:ext cx="73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45920" y="4038480"/>
              <a:ext cx="0" cy="144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145560" y="5500800"/>
              <a:ext cx="114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819680" y="4205160"/>
            <a:ext cx="0" cy="64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99240" y="4884840"/>
            <a:ext cx="748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ll-Wer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12840" y="4319640"/>
            <a:ext cx="12772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t-Werte der fertig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emeldet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zeugni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24360" y="2895480"/>
            <a:ext cx="1176120" cy="2196720"/>
            <a:chOff x="3024360" y="2895480"/>
            <a:chExt cx="1176120" cy="2196720"/>
          </a:xfrm>
        </p:grpSpPr>
        <p:sp>
          <p:nvSpPr>
            <p:cNvPr id="109" name=""/>
            <p:cNvSpPr/>
            <p:nvPr/>
          </p:nvSpPr>
          <p:spPr>
            <a:xfrm flipH="1">
              <a:off x="3038400" y="2895480"/>
              <a:ext cx="111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29040" y="2895480"/>
              <a:ext cx="0" cy="219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24360" y="5092200"/>
              <a:ext cx="117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04920" y="3048120"/>
            <a:ext cx="533160" cy="2666880"/>
            <a:chOff x="304920" y="3048120"/>
            <a:chExt cx="533160" cy="2666880"/>
          </a:xfrm>
        </p:grpSpPr>
        <p:sp>
          <p:nvSpPr>
            <p:cNvPr id="113" name=""/>
            <p:cNvSpPr/>
            <p:nvPr/>
          </p:nvSpPr>
          <p:spPr>
            <a:xfrm flipH="1">
              <a:off x="311400" y="304812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6720" y="3048120"/>
              <a:ext cx="0" cy="26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920" y="57150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895480" y="1447920"/>
            <a:ext cx="682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t- Sätz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133720" y="5619600"/>
            <a:ext cx="2076480" cy="254160"/>
            <a:chOff x="2133720" y="5619600"/>
            <a:chExt cx="2076480" cy="254160"/>
          </a:xfrm>
        </p:grpSpPr>
        <p:sp>
          <p:nvSpPr>
            <p:cNvPr id="118" name=""/>
            <p:cNvSpPr/>
            <p:nvPr/>
          </p:nvSpPr>
          <p:spPr>
            <a:xfrm>
              <a:off x="2800440" y="587376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5619600"/>
              <a:ext cx="66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00440" y="561960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267080" y="251460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ktions-Planungs-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4:19:54Z</dcterms:created>
  <dc:creator>Joachim Becker</dc:creator>
  <dc:description/>
  <dc:language>en-US</dc:language>
  <cp:lastModifiedBy>Joachim Becker</cp:lastModifiedBy>
  <dcterms:modified xsi:type="dcterms:W3CDTF">2002-01-28T14:40:28Z</dcterms:modified>
  <cp:revision>1</cp:revision>
  <dc:subject/>
  <dc:title> Einordnung von Arbeitsplanung und Kalkulation in das kaufmännische Gesamtsystem</dc:title>
</cp:coreProperties>
</file>